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F2F4-B3F5-4114-9668-4C4395155D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er to Pece editorial on generative models. Maybe put all references at the end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6132-0B9D-4C3D-9C66-36D66307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1196-7187-43DB-8260-F408CED9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AA29-D3D6-4441-9B47-A7906908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CD42-54D1-409B-B405-4FD40D64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0961-A5B3-4820-B0D9-15B62FDB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6811-3B77-4C07-BDDF-770EE62B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FC45-D0B1-4D6C-AA96-D3DB8B47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C9C7-221A-45B5-88C0-8A449552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66B3-9F44-46B7-8857-481749AB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7E65-C948-4E40-AAAA-B5BEE83E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3701-9A96-4F31-BFA2-34533AC8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CCB7-BAF3-44D3-AA1B-C4C05C75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2E4E-52F5-4B57-B845-F57074F3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ECA6-D31C-489B-96A7-1F5D0A4C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1393-B398-4F04-82DB-D57A1D7F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4EE6-9A66-48AB-B329-B1FF18F9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E014-B6AE-4ADE-86DE-325A4383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E3F6-5B59-4745-B4ED-0209612F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BCA4-042C-48EC-AF01-2376A161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8FEC-08B9-4813-B555-8C29DDB1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2F90-7F02-4FAF-99C3-4F7C966D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9A24-4B5A-40A3-8361-BAF9B379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5505-B17B-4D89-8060-3DA4D6A0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C2E1-EFFD-4008-94E6-D5E82F80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818D-48DB-46C9-8E55-B03BCE09BCD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D07B-9722-47FB-B378-A808BF6A2C4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hs20@sussex.ac.uk" TargetMode="External"/><Relationship Id="rId2" Type="http://schemas.openxmlformats.org/officeDocument/2006/relationships/hyperlink" Target="mailto:hilaryb@sussex.ac.uk" TargetMode="External"/><Relationship Id="rId3" Type="http://schemas.openxmlformats.org/officeDocument/2006/relationships/hyperlink" Target="http://www.ecvision.org/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Computer Vi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4920" y="274320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Kingsley S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khs20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ilary Bux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ilaryb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pared under ECVision Specific Action 8-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ecvision.or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01360" y="834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-estimation procedure#</a:t>
            </a:r>
            <a:br>
              <a:rPr sz="36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just the same as before …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2160" y="235908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ummary of procedur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oose 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=(</a:t>
            </a: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t random (subject to probability constraints, of course …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lculat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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re-estimation formulae to calculate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=(</a:t>
            </a:r>
            <a:r>
              <a:rPr b="1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A’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B’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lculat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|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) - p(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)| &lt;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N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St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SE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D L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7360" y="750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lculating </a:t>
            </a:r>
            <a:r>
              <a:rPr b="1" i="1" lang="en-US" sz="3600" spc="-1" strike="noStrike">
                <a:solidFill>
                  <a:srgbClr val="006666"/>
                </a:solidFill>
                <a:latin typeface="Symbol"/>
                <a:ea typeface="Symbol"/>
              </a:rPr>
              <a:t>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(i,j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9280" y="4270320"/>
            <a:ext cx="861048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e difference for continuous valued data is how we calculate the term 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i="1" lang="en-GB" sz="24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(o</a:t>
            </a:r>
            <a:r>
              <a:rPr b="0" i="1" lang="en-GB" sz="2400" spc="-1" strike="noStrike" baseline="-25000">
                <a:solidFill>
                  <a:srgbClr val="003366"/>
                </a:solidFill>
                <a:latin typeface="Arial"/>
              </a:rPr>
              <a:t>t+1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073240" y="2411280"/>
                <a:ext cx="53722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O</m:t>
                    </m:r>
                    <m:r>
                      <m:t xml:space="preserve">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139920" y="3146400"/>
                <a:ext cx="38340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|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297080" y="5257800"/>
                <a:ext cx="738972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|</m:t>
                        </m:r>
                        <m:r>
                          <m:t xml:space="preserve">Σ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2960" y="806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utting it all together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1680" y="5307120"/>
            <a:ext cx="8610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s we saw in the seminar, we can ignore P(O|</a:t>
            </a:r>
            <a:r>
              <a:rPr b="0" lang="en-GB" sz="20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) as it is a constant and use combinations of scaling and normalisation when calculating </a:t>
            </a:r>
            <a:r>
              <a:rPr b="0" lang="en-GB" sz="20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, A and Gaussian parameter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97080" y="2558880"/>
                <a:ext cx="494676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|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657520" y="3660840"/>
                <a:ext cx="395604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44200" y="791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-estimation formulae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371600" y="2819520"/>
                <a:ext cx="3352680" cy="27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4876920" y="2743200"/>
            <a:ext cx="4038480" cy="36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e mean for Gaussian index 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is formed by weighting the observation data according to the count parameters </a:t>
            </a:r>
            <a:r>
              <a:rPr b="0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ormalising constants for </a:t>
            </a:r>
            <a:r>
              <a:rPr b="0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terms cancel ou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asily extends to multiple sequen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44200" y="791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-estimation formulae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467000" y="2963880"/>
                <a:ext cx="441936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T</m:t>
                                      </m:r>
                                    </m:e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T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863640" y="4809960"/>
                <a:ext cx="566100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⊗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⋮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mr>
                                </m:m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m>
                                      <m:mr>
                                        <m:e>
                                          <m:sSub>
                                            <m:e>
                                              <m:r>
                                                <m:t xml:space="preserve">γ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t</m:t>
                                              </m:r>
                                              <m:r>
                                                <m:t xml:space="preserve">=</m:t>
                                              </m:r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(</m:t>
                                          </m:r>
                                          <m:r>
                                            <m:t xml:space="preserve">m</m:t>
                                          </m:r>
                                          <m:r>
                                            <m:t xml:space="preserve">)</m:t>
                                          </m:r>
                                        </m:e>
                                        <m:e>
                                          <m:r>
                                            <m:t xml:space="preserve">⋯</m:t>
                                          </m:r>
                                        </m:e>
                                        <m:e>
                                          <m:sSub>
                                            <m:e>
                                              <m:r>
                                                <m:t xml:space="preserve">γ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t</m:t>
                                              </m:r>
                                              <m:r>
                                                <m:t xml:space="preserve">=</m:t>
                                              </m:r>
                                              <m:r>
                                                <m:t xml:space="preserve">T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(</m:t>
                                          </m:r>
                                          <m:r>
                                            <m:t xml:space="preserve">m</m:t>
                                          </m:r>
                                          <m:r>
                                            <m:t xml:space="preserve">)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⋮</m:t>
                                          </m:r>
                                        </m:e>
                                        <m:e>
                                          <m:r>
                                            <m:t xml:space="preserve">⋱</m:t>
                                          </m:r>
                                        </m:e>
                                        <m:e>
                                          <m:r>
                                            <m:t xml:space="preserve">⋮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sSub>
                                            <m:e>
                                              <m:r>
                                                <m:t xml:space="preserve">γ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t</m:t>
                                              </m:r>
                                              <m:r>
                                                <m:t xml:space="preserve">=</m:t>
                                              </m:r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(</m:t>
                                          </m:r>
                                          <m:r>
                                            <m:t xml:space="preserve">m</m:t>
                                          </m:r>
                                          <m:r>
                                            <m:t xml:space="preserve">)</m:t>
                                          </m:r>
                                        </m:e>
                                        <m:e>
                                          <m:r>
                                            <m:t xml:space="preserve">⋯</m:t>
                                          </m:r>
                                        </m:e>
                                        <m:e>
                                          <m:sSub>
                                            <m:e>
                                              <m:r>
                                                <m:t xml:space="preserve">γ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t</m:t>
                                              </m:r>
                                              <m:r>
                                                <m:t xml:space="preserve">=</m:t>
                                              </m:r>
                                              <m:r>
                                                <m:t xml:space="preserve">T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(</m:t>
                                          </m:r>
                                          <m:r>
                                            <m:t xml:space="preserve">m</m:t>
                                          </m:r>
                                          <m:r>
                                            <m:t xml:space="preserve">)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6246720" y="2805120"/>
            <a:ext cx="27432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Covariance calculation is comparable with        (O  - </a:t>
            </a:r>
            <a:r>
              <a:rPr b="0" lang="en-GB" sz="16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GB" sz="1600" spc="-1" strike="noStrike" baseline="30000">
                <a:solidFill>
                  <a:srgbClr val="003366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en-GB" sz="1600" spc="-1" strike="noStrike">
                <a:solidFill>
                  <a:srgbClr val="003366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If </a:t>
            </a:r>
            <a:r>
              <a:rPr b="0" lang="en-GB" sz="1600" spc="-1" strike="noStrike">
                <a:solidFill>
                  <a:srgbClr val="003366"/>
                </a:solidFill>
                <a:latin typeface="Symbol"/>
                <a:ea typeface="Symbol"/>
              </a:rPr>
              <a:t>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was scaled correctly, normalising constants cancel ou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Symbol"/>
                <a:ea typeface="Symbol"/>
              </a:rPr>
              <a:t>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is element-wise produc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matrix</a:t>
            </a:r>
            <a:r>
              <a:rPr b="0" lang="en-GB" sz="1600" spc="-1" strike="noStrike" baseline="30000">
                <a:solidFill>
                  <a:srgbClr val="003366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is matrix transpos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N is the number of hidden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T is tim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791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ochastic samp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63640" y="247176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use our continuous valued model to generate data (just like for the discrete cas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t’s assume that some observation data is missing (e.g. in a visual tracker where our target has become occlud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assume we are applying the correct motion model to our target and that we have some historical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01360" y="834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ochastic samp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1800" y="2359080"/>
            <a:ext cx="7846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Summary of procedur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Given model (</a:t>
            </a:r>
            <a:r>
              <a:rPr b="0" lang="en-GB" sz="22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,A,B) with 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 hidden states, observation data 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 we can calculate a forwards evaluation trellis </a:t>
            </a:r>
            <a:r>
              <a:rPr b="0" i="1" lang="en-GB" sz="22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 up until observation data is no longer available (say at time 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t=u</a:t>
            </a: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For the distribution </a:t>
            </a:r>
            <a:r>
              <a:rPr b="0" i="1" lang="en-GB" sz="22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(N,t=u),</a:t>
            </a: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 calculate the values based on the state transition matrix 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 alone from </a:t>
            </a:r>
            <a:r>
              <a:rPr b="0" i="1" lang="en-GB" sz="22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(N,t=u-1),</a:t>
            </a: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 (there is no value 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GB" sz="2200" spc="-1" strike="noStrike" baseline="-25000">
                <a:solidFill>
                  <a:srgbClr val="003366"/>
                </a:solidFill>
                <a:latin typeface="Arial"/>
              </a:rPr>
              <a:t>u</a:t>
            </a: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Stochastically sample </a:t>
            </a:r>
            <a:r>
              <a:rPr b="0" i="1" lang="en-GB" sz="22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(N,t=u)</a:t>
            </a: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 and select one state 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. Set </a:t>
            </a:r>
            <a:r>
              <a:rPr b="0" i="1" lang="en-GB" sz="22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(n=q,t=u)=1.0</a:t>
            </a: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 and all other values </a:t>
            </a:r>
            <a:r>
              <a:rPr b="0" i="1" lang="en-GB" sz="22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GB" sz="2200" spc="-1" strike="noStrike">
                <a:solidFill>
                  <a:srgbClr val="003366"/>
                </a:solidFill>
                <a:latin typeface="Symbol"/>
                <a:ea typeface="Symbol"/>
              </a:rPr>
              <a:t>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i="1" lang="en-GB" sz="2200" spc="-1" strike="noStrike">
                <a:solidFill>
                  <a:srgbClr val="003366"/>
                </a:solidFill>
                <a:latin typeface="Symbol"/>
                <a:ea typeface="Symbol"/>
              </a:rPr>
              <a:t>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N:n</a:t>
            </a:r>
            <a:r>
              <a:rPr b="0" i="1" lang="en-GB" sz="2200" spc="-1" strike="noStrike">
                <a:solidFill>
                  <a:srgbClr val="003366"/>
                </a:solidFill>
                <a:latin typeface="Symbol"/>
                <a:ea typeface="Symbol"/>
              </a:rPr>
              <a:t>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q,t=u)=0.0</a:t>
            </a: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 is the hidden state we have selected to be i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Generate 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GB" sz="2200" spc="-1" strike="noStrike" baseline="-25000">
                <a:solidFill>
                  <a:srgbClr val="003366"/>
                </a:solidFill>
                <a:latin typeface="Arial"/>
              </a:rPr>
              <a:t>u</a:t>
            </a:r>
            <a:r>
              <a:rPr b="0" lang="en-GB" sz="2200" spc="-1" strike="noStrike">
                <a:solidFill>
                  <a:srgbClr val="003366"/>
                </a:solidFill>
                <a:latin typeface="Arial"/>
              </a:rPr>
              <a:t> by sampling </a:t>
            </a:r>
            <a:r>
              <a:rPr b="0" i="1" lang="en-GB" sz="22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i="1" lang="en-GB" sz="2200" spc="-1" strike="noStrike" baseline="-25000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GB" sz="22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i="1" lang="en-GB" sz="22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ochastic sampling in a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1" name="vlmm_fig" descr=""/>
          <p:cNvPicPr/>
          <p:nvPr/>
        </p:nvPicPr>
        <p:blipFill>
          <a:blip r:embed="rId1"/>
          <a:stretch/>
        </p:blipFill>
        <p:spPr>
          <a:xfrm>
            <a:off x="990720" y="2637000"/>
            <a:ext cx="4647960" cy="3608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942160" y="2514600"/>
            <a:ext cx="2623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99"/>
                </a:solidFill>
                <a:latin typeface="Times New Roman"/>
              </a:rPr>
              <a:t>Green: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constant velocity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Blue: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constant acceleratio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ed: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First order HM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cc"/>
                </a:solidFill>
                <a:latin typeface="Times New Roman"/>
              </a:rPr>
              <a:t>Purple: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Variable Length M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92760" y="3552840"/>
            <a:ext cx="32353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Black shows observed data from our earlier hand trajectory example The rest of the circle is occlude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Extrapolation over many timesteps gives a wide variation in prediction. This is because the memory is only first orde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The Variable Length Markov Model (VLMM) tracker uses a longer temporal history to build a stiffer mode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uch of the HMM learning for the continuous case is similar to the discrete case but we use Gaussian models parameterised by </a:t>
            </a:r>
            <a:r>
              <a:rPr b="0" i="1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major additional computation involves the re-estimation process since it involves the Gaussian mod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e can full in the observation sequence for a model (</a:t>
            </a:r>
            <a:r>
              <a:rPr b="0" i="1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,A,B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) by using stochastic samp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58600" y="8028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time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90640" y="2612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ing in Bayesian Belief Net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cture 1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ing the parameters for a continuous valued Hidden Markov Mod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iven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find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o maximise likelihood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Baum Welch (model parameter) lear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ochastic sampl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o why are HMMs relevant to Cognitive CV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4040" y="2717640"/>
            <a:ext cx="80294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s a well-founded methodology for reasoning about temporal ev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 method that you can use as a basis for our model of expec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is lecture we shall see how we can learn the HMM model parameters for a task from training observation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71480" y="8902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minder: What is a Hidden Markov Mode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07840" y="25560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rmally a Hidden Markov Model </a:t>
            </a:r>
            <a:r>
              <a:rPr b="0" i="1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 = (</a:t>
            </a:r>
            <a:r>
              <a:rPr b="1" i="1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en-GB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en-GB" sz="24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vector is a 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1*N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vector that specifies the probability of being in a particular hidden state at time 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t=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is the State Transition Matrix (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N*N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matrix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are the Confusion parameters for N Gaussian components (N mean vectors and 1 or N co-variance matric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is the observation sequence (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1*|</a:t>
            </a:r>
            <a:r>
              <a:rPr b="1" i="1" lang="en-GB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| vecto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for a visual task</a:t>
            </a:r>
            <a:br>
              <a:rPr sz="36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D hand trajectory tracking (movie © ICS, FORTH, Crete GREECE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110" name="2DTrajectoryPic" descr=""/>
          <p:cNvPicPr/>
          <p:nvPr/>
        </p:nvPicPr>
        <p:blipFill>
          <a:blip r:embed="rId2"/>
          <a:stretch/>
        </p:blipFill>
        <p:spPr>
          <a:xfrm>
            <a:off x="4879800" y="2666880"/>
            <a:ext cx="3992760" cy="3078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43080" y="5727600"/>
            <a:ext cx="676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e use a hand tracker to create positional data f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unctional gestures (hand going in circles in this cas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791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um Welch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63640" y="247176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ven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find 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maximise likelihood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|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Baum Welch (model parameter)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type of Expectation Maximisation (EM)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rt with random parameters for </a:t>
            </a: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= (</a:t>
            </a: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, A, 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ly iteration of BW learning to define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itial model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either defines a critical point of the likelihood function, in which case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 =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el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more likely in the sense that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) &gt; P(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.e. we have found another model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rom which the observation sequence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more likely to be produc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um Welch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4038840" cy="4038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148360" y="2711520"/>
            <a:ext cx="4038480" cy="36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r continuous valued data we are also learning the parameters of the Gaussian componen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tarting from random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Here we assume that there is only one covariance matri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74360" y="818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tting the notation right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9800" y="234648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irst, we need to set out some more precise mathematical notation and terms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1" i="1" lang="en-GB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| </a:t>
            </a:r>
            <a:r>
              <a:rPr b="0" i="1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):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fit of </a:t>
            </a:r>
            <a:r>
              <a:rPr b="1" i="1" lang="en-GB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given the mod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0" i="1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|</a:t>
            </a:r>
            <a:r>
              <a:rPr b="1" i="1" lang="en-GB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):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Likelihood fun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= [ 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GB" sz="24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, o</a:t>
            </a:r>
            <a:r>
              <a:rPr b="0" i="1" lang="en-GB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, … , o</a:t>
            </a:r>
            <a:r>
              <a:rPr b="0" i="1" lang="en-GB" sz="24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lang="en-GB" sz="2400" spc="-1" strike="noStrike" baseline="-25000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hidden states (we choose this value ourselv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symbols in the observation sequ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= the forwards evaluation trellis (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N*T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matrix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= the backwards evaluation trellis (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N*T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matrix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k = # of features in the Gaussian compon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tting the notation right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838080" y="2590920"/>
            <a:ext cx="3909960" cy="520560"/>
            <a:chOff x="838080" y="2590920"/>
            <a:chExt cx="3909960" cy="520560"/>
          </a:xfrm>
        </p:grpSpPr>
        <p:sp>
          <p:nvSpPr>
            <p:cNvPr id="121" name=""/>
            <p:cNvSpPr/>
            <p:nvPr/>
          </p:nvSpPr>
          <p:spPr>
            <a:xfrm>
              <a:off x="838080" y="2590920"/>
              <a:ext cx="375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66"/>
                  </a:solidFill>
                  <a:latin typeface="Symbol"/>
                  <a:ea typeface="Symbol"/>
                </a:rPr>
                <a:t></a:t>
              </a: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</a:rPr>
                <a:t>=     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2081160" y="2621160"/>
                  <a:ext cx="266688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3" name=""/>
          <p:cNvGrpSpPr/>
          <p:nvPr/>
        </p:nvGrpSpPr>
        <p:grpSpPr>
          <a:xfrm>
            <a:off x="5181480" y="2438280"/>
            <a:ext cx="3276720" cy="1371240"/>
            <a:chOff x="5181480" y="2438280"/>
            <a:chExt cx="3276720" cy="1371240"/>
          </a:xfrm>
        </p:grpSpPr>
        <p:sp>
          <p:nvSpPr>
            <p:cNvPr id="124" name=""/>
            <p:cNvSpPr/>
            <p:nvPr/>
          </p:nvSpPr>
          <p:spPr>
            <a:xfrm>
              <a:off x="5181480" y="243828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003366"/>
                  </a:solidFill>
                  <a:latin typeface="Times New Roman"/>
                </a:rPr>
                <a:t> = 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5813640" y="2494440"/>
                  <a:ext cx="2009520" cy="131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,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,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,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  <m:e/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/>
                              <m:e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181480" y="4267080"/>
                <a:ext cx="362448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sup>
                                          <m:r>
                                            <m:t xml:space="preserve">1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sup>
                                          <m:r>
                                            <m:t xml:space="preserve">k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  <m:sup>
                                          <m:r>
                                            <m:t xml:space="preserve">1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  <m:sup>
                                          <m:r>
                                            <m:t xml:space="preserve">k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p>
                                          <m:r>
                                            <m:t xml:space="preserve">1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p>
                                          <m:r>
                                            <m:t xml:space="preserve">k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62120" y="4343400"/>
                <a:ext cx="441936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,1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,2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k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,1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,2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k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k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0:31:27Z</dcterms:created>
  <dc:creator>Sage</dc:creator>
  <dc:description/>
  <dc:language>en-US</dc:language>
  <cp:lastModifiedBy>Sage</cp:lastModifiedBy>
  <dcterms:modified xsi:type="dcterms:W3CDTF">2005-03-24T15:28:19Z</dcterms:modified>
  <cp:revision>60</cp:revision>
  <dc:subject/>
  <dc:title>Markov Models</dc:title>
</cp:coreProperties>
</file>